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B70-43B9-488F-B64E-6AB5A610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99E-9A44-4FA1-82AC-6136809E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D21-CE5E-450A-9AF0-F33A000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069-EAB4-4D8B-BA40-DA71F892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228-9BEA-4A48-9643-CC628F0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A0F-C350-45A4-969E-7FB077A4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16F-C895-4B6F-843F-7BA81FA8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ACB-D3C2-4531-8043-6556D617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B46-8A13-4D69-BFC8-B25F6961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AAF-F25D-4D2B-817B-D0BB9D0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E6A-4BC0-466C-98A4-DCBB929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2B4-E74F-46F7-B594-9A443C5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5D70-6ED5-4044-A5AE-9CB2B77E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8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3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QUIZ: Repaso B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I- Conjug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r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I- Comple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lores no ________ much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ud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 un examen?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d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lumnos ___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_ la comid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ci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 _________ en la escuela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 _________ mucho en clas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hab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________ a México en el vera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i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al profesor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Escuch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 el cuaderno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Comp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sa _________ la televisión después de clas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Mirar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I- Completa con el PRONOMBRE correc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cantas muy bien en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oca el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 trabajo mucho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sacan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voy a la casa de L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compro el lápiz en la papel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trabajamos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 enseña la le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V- Completa con la PREGUNTA cor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88416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va a la escuela en bus publ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llega a la escuela a las siet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 toma 5 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l curso favorito de Ana es i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¿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960" indent="-390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a lleva un cuaderno y una pluma a cl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: REPASO B el LU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or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, Dar,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 ‘A’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28:31Z</dcterms:created>
  <dc:creator>Helen Zumaeta</dc:creator>
  <dc:description/>
  <dc:language>en-US</dc:language>
  <cp:lastModifiedBy>Helen Zumaeta</cp:lastModifiedBy>
  <dcterms:modified xsi:type="dcterms:W3CDTF">2014-09-23T14:27:34Z</dcterms:modified>
  <cp:revision>8</cp:revision>
  <dc:subject/>
  <dc:title>Me llamo ________ Clase 6nh/il La fecha es el 14 de febrero del 2011</dc:title>
</cp:coreProperties>
</file>